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652-DA6D-4281-B164-8C4287A8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8A5-1501-4ED6-B646-F4F27A85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564-C752-439E-80CE-B1D7B5B2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D31-68CC-411C-AA27-32C235C0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1394-A7FF-49D3-AB5C-75E9F346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484A-C14A-409A-97EC-50B4FB8D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CFF4-A40A-48FD-9ED1-ECA5E03C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F7B4-DFAD-4F6B-A7AF-65046610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243B-E31D-4141-9BC9-75801135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3736-B0FD-4B65-95E6-DCEBB435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8F01-4555-453A-AC52-D6EE5B4A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6AB-373B-422F-AF16-5A1BAA5C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5E89-21D3-4219-9A8C-7473FC18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6E64-6E96-46C7-B837-ADE121CC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1D18-0A62-45A2-9FFC-ADEA6A76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3042-DE82-4FE3-95D1-D4D7F04A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208B-F237-4EF7-8045-63FA96AA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E84-DEC9-4025-BE2D-5931C64D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588C-DD4A-4A7D-BA36-1AD39932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354-13E8-4283-A144-856F50D2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B92-92BA-4830-837D-A0909CB5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CC5-30D5-4312-8AF4-4AE03B20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B80-7F0E-46D1-8C75-471E9B6C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2EE-B89D-49B2-BD65-671E20C7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2443-2113-46CB-AB4A-98FE2F622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3D79-B13F-43C4-82B5-BE7BCA6F2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aria@socinfo.org.br" TargetMode="External"/><Relationship Id="rId2" Type="http://schemas.openxmlformats.org/officeDocument/2006/relationships/hyperlink" Target="mailto:maria@socinfo.org.br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../documentos/pdf/ca03.zip" TargetMode="External"/><Relationship Id="rId2" Type="http://schemas.openxmlformats.org/officeDocument/2006/relationships/hyperlink" Target="file:///../documentos/pdf/ca04.zip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1943280" cy="1519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90920" y="304920"/>
            <a:ext cx="41907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Universidade Federal de Mato Grosso do Su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Departamento de Computação e Estatís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Tópicos de Sistemas de Informa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Prof. Dr. Marcelo Tur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72400" y="3886200"/>
            <a:ext cx="500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resentação do Seminário sob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formática e Telecomunicação no Brasil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“ (Anexo II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 “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 Interne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”(Anexo IV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29960" y="5257800"/>
            <a:ext cx="2260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Alunos: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Ed Lúcio K. Soto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lávio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Leandro Brent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Wilson Alv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A Interne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ndereços IP e Nomes de Domí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Um número IP é uma identificação de um computador ligado à Internet´, é equivalente ao número do telefone composto por (Código de País – Código de Área – Número do Assinant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 identificação entre as pessoas é feita através de endereços eletrônicos ex: </a:t>
            </a:r>
            <a:r>
              <a:rPr b="0" lang="pt-BR" sz="2000" spc="-1" strike="noStrike" u="sng">
                <a:solidFill>
                  <a:srgbClr val="330099"/>
                </a:solidFill>
                <a:uFillTx/>
                <a:latin typeface="Times New Roman"/>
                <a:hlinkClick r:id="rId1"/>
              </a:rPr>
              <a:t>maria@socinfo.org.</a:t>
            </a:r>
            <a:r>
              <a:rPr b="0" lang="pt-BR" sz="2000" spc="-1" strike="noStrike" u="sng">
                <a:solidFill>
                  <a:srgbClr val="330099"/>
                </a:solidFill>
                <a:uFillTx/>
                <a:latin typeface="Times New Roman"/>
                <a:hlinkClick r:id="rId2"/>
              </a:rPr>
              <a:t>br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, refere-se a “maria”, que está ”@” em uma entidade denominada “socinfo”, que é uma organização “.org” registrada na estrutura Internet do Brasil “.b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o Brasil, o domínio global de primeiro nível é representado por “.br”, dentro do qual há subdomínios especializados (“.com”, “.org”, etc) e no terceiro nível entram as entidades (“socinfo”, “hotmail”, et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EstDom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321160" cy="601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A Interne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overnança na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 Internet brasileira é mantida e operada pelo Comitê Gestor da Internet no Bras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 CG tem a missão de organizar e supervisionar as funções básicas de infra-estrutura para serviços Internet Brasil, nessas funções inclue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locação de endereços I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egistro de Nomes de Domínio (no “.br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rotocolos básicos e de serviço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ngenharia de Re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 CG é, no Brasil,  a contrapartida da International Corporation for Assigned Names and Numbers (ICAN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Interne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 Brasil foi iniciada em 1989 como uma rede acadêm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istem cerca de 446.444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osts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 Bras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gráfico A4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 Interne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xistem 6 backbones nacionai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NP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www.rnp.b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brate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www.embratel.net.b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anco Rura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www.homeshopping.com.b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nisy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www.unisys.com.b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lobal-On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www.global-one.net.b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BM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www.ibm.com.b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 Interne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 segmento de redes para educação a RNP é complementada pelas seguintes redes acadêm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ede ANSP (Rede acadêmica Paulist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ede Bah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ede Catarine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ede Internet Mi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ede Paraibana de Pesqui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ede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ede Rio Grandense de Informá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ede Pernambuco de Informá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Rede Tchê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 Interne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gundo A Abranet, em 2000 País possuía 150 prov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Gráfico A4.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 Interne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ribuição Regional de Provedores no País (199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áfico A4.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  Interne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úmeros de Domínios no Bras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52480" y="2666880"/>
          <a:ext cx="610740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666880"/>
                    <a:ext cx="610740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 Interne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ra-Estrutura de Fibra Ótica em Implantação no Paí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gura A4.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1447920"/>
            <a:ext cx="861048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elecomunicaçã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riação da EMBRAT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riação da TELEBRÁ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xpansão dos serviços de Telecomunicaçõ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riação da CPq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rise no setor de desenvolvim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ova Lei de Telecomunica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riação da ANAT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esultado da Privatização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838080"/>
            <a:ext cx="55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ormática e Telecomunicação no Bras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ciedade da Informação no Brasil - Livro Verd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o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embro,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0099"/>
                </a:solidFill>
                <a:uFillTx/>
                <a:latin typeface="Times New Roman"/>
                <a:hlinkClick r:id="rId1"/>
              </a:rPr>
              <a:t>Anexo 3 - Informática e Telecomunicações no Bras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0099"/>
                </a:solidFill>
                <a:uFillTx/>
                <a:latin typeface="Times New Roman"/>
                <a:hlinkClick r:id="rId2"/>
              </a:rPr>
              <a:t>Anexo 4 - A 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5280" y="914400"/>
            <a:ext cx="693432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formáti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riação da SE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Viabilização de uma indústria de mini computad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Foco de ação estratégica passou para microcomputadores e rede loca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nsolidação do setor de software e serviç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écada de 9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riação da RN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riação do Protem - 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riação da SofTe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riação da SINAP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25560" y="304920"/>
            <a:ext cx="55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ormática e Telecomunicação no Bras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A Interne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É derivada de uma ampla união de tecnologia gerada para se implantar uma rede de computadores, desenvolvida pelo Departamento de Defesa dos E.U.A., na era da Guerra F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sa tecnologia foi encomendada a alguns grupos de pesquisa de universidades americanas, no final da década de 60 pelo D.D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A Interne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endência nos países mais atentos ao nascente fenômeno, era o envolvimento inicial das instituições do setor acadêm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go em seguida, ocorreu o interesse do governo em implantar essa nova infra-estrutura de redes para apoio a atividades de educação e pesqui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 década de 90, houve a expansão rumo a serviços da Internet, abertos a quaisquer fi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ndes responsáveis por essa expansão foram as ONG e os gov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A Interne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 Evolução da Internet no Bras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ioneirismo de algumas instituições acadêmicas, ONG e Governo Federal (MCT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e 91 a 93, a RPN (Rede Nacional de Pesquisa) implanta a primeira versão de serviços Internet com pontos em 21 est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A Interne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quitetura e Operação de Serviços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ode ser traduzida como um conjunto de funções, tais como, e-mail, ICQ, etc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É corporificada no chamado protocolo IP. Na forma mais simples, um usuário se liga a um provedor de serviços por meio de uma linha telefôn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A Interne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ackbone e Aces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Backbone, é definido como uma malha de comunicação, composta por vários enlaces de dados a alta velocida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ipnetwork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6324840" cy="419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A Interne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ngenharia de Re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m nível global, as questões de engenharia de redes na Internet são discutidas e, eventualmente, resolvidas pelo IETF (Internet Engineering Task Force), que funciona como o fórum que estabelece os padrões de fato dos protocolos e serviços Interne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de Sistemas de Informação - Análise de Sistem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2T11:03:50Z</dcterms:created>
  <dc:creator>VALDOMIRO JUNIOR</dc:creator>
  <dc:description/>
  <dc:language>en-US</dc:language>
  <cp:lastModifiedBy>fja</cp:lastModifiedBy>
  <dcterms:modified xsi:type="dcterms:W3CDTF">2002-05-03T01:30:58Z</dcterms:modified>
  <cp:revision>17</cp:revision>
  <dc:subject/>
  <dc:title>A Internet</dc:title>
</cp:coreProperties>
</file>